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A01-AF17-4E2E-9AE0-50D1AC42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668-FE8A-47F8-A65F-05C2785B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F4B-1E5E-4D1B-A11B-F09B1FD4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DEA-2E43-4051-96B3-CEF31C26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C639-123E-4AFC-AE7B-35A66740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EB66-D004-4BC4-9925-3D05C42D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8D2F-D598-427C-985C-B0BA4277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2484-EB05-4402-B0A7-4A751130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3F10-50EA-493D-A53F-3534A4B6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F814-1CB7-49BB-AC34-C792B537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9257-FD6B-4166-8775-2B740F1B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763-FD96-4699-8424-A7BFC90A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A9FF-A011-43DB-8171-22F7874C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1E7E-516F-4803-ABB8-44F33C26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BD06-47EE-48D8-9192-551557C9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EECA-39C7-42D2-8770-44660390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772F-B160-4600-8714-88F4A477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899-697E-4423-82BF-B4821F81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E67-78F5-4779-9D8E-7343057A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0E8-EB31-4C30-993E-FDAE0929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A76-A8F4-40B3-8659-BA06125A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B3A-BADA-4359-8E01-AA5B9BE0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5DD-F982-43DF-AF61-12FC4073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295E-280D-4953-A6ED-480091CB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490E-D85E-4671-B8CC-9043ADC4B3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A0E1-F140-4E9F-9F0D-54ED43A440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Здоровый образ жизни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дых на природ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12" descr="P1000683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Я на мосту"/>
          <p:cNvPicPr/>
          <p:nvPr/>
        </p:nvPicPr>
        <p:blipFill>
          <a:blip r:embed="rId2"/>
          <a:stretch/>
        </p:blipFill>
        <p:spPr>
          <a:xfrm>
            <a:off x="1600200" y="3941640"/>
            <a:ext cx="175104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1"/>
          <p:cNvPicPr/>
          <p:nvPr/>
        </p:nvPicPr>
        <p:blipFill>
          <a:blip r:embed="rId3"/>
          <a:stretch/>
        </p:blipFill>
        <p:spPr>
          <a:xfrm>
            <a:off x="928800" y="1600200"/>
            <a:ext cx="3095640" cy="21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3"/>
          <p:cNvPicPr/>
          <p:nvPr/>
        </p:nvPicPr>
        <p:blipFill>
          <a:blip r:embed="rId4"/>
          <a:stretch/>
        </p:blipFill>
        <p:spPr>
          <a:xfrm>
            <a:off x="5946840" y="3941640"/>
            <a:ext cx="1441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лноценный сон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8" descr="snapshot_2dae895f_6db0f4a6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SSM12325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eec94"/>
                </a:solidFill>
                <a:latin typeface="Times New Roman"/>
              </a:rPr>
              <a:t>Спасибо за внимание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полнила ученица..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китина Л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1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а класс, школа №1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лекается компьютерными игр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ит кататься на роликах, гулять с подругами, работать на компьюте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10" descr="Фото058"/>
          <p:cNvPicPr/>
          <p:nvPr/>
        </p:nvPicPr>
        <p:blipFill>
          <a:blip r:embed="rId1"/>
          <a:stretch/>
        </p:blipFill>
        <p:spPr>
          <a:xfrm>
            <a:off x="665280" y="1600200"/>
            <a:ext cx="36208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бы вести здоровый образ жизни курить и пить спиртные напитки не следует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12" descr="SSM1220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SSM12248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бы укрепить своё здоровье следует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Заниматься спортом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авильно питаться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улять на природе,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олноценный сон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от примеры занятия спорто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6" descr="snapshot_adae8020_adb0f51f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Snapshot"/>
          <p:cNvPicPr/>
          <p:nvPr/>
        </p:nvPicPr>
        <p:blipFill>
          <a:blip r:embed="rId2"/>
          <a:stretch/>
        </p:blipFill>
        <p:spPr>
          <a:xfrm>
            <a:off x="4762440" y="243684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 вот примеры из жизн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13" descr="CIMG1283"/>
          <p:cNvPicPr/>
          <p:nvPr/>
        </p:nvPicPr>
        <p:blipFill>
          <a:blip r:embed="rId1"/>
          <a:stretch/>
        </p:blipFill>
        <p:spPr>
          <a:xfrm>
            <a:off x="5846760" y="394164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Я и В куп"/>
          <p:cNvPicPr/>
          <p:nvPr/>
        </p:nvPicPr>
        <p:blipFill>
          <a:blip r:embed="rId2"/>
          <a:stretch/>
        </p:blipFill>
        <p:spPr>
          <a:xfrm>
            <a:off x="1655640" y="1600200"/>
            <a:ext cx="164016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P1000676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CIMG1255"/>
          <p:cNvPicPr/>
          <p:nvPr/>
        </p:nvPicPr>
        <p:blipFill>
          <a:blip r:embed="rId4"/>
          <a:stretch/>
        </p:blipFill>
        <p:spPr>
          <a:xfrm>
            <a:off x="1017720" y="3941640"/>
            <a:ext cx="29160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вильное пит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8" descr="snapshot_75014294_f0d00203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P1000260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SSM10598"/>
          <p:cNvPicPr/>
          <p:nvPr/>
        </p:nvPicPr>
        <p:blipFill>
          <a:blip r:embed="rId3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P1010695"/>
          <p:cNvPicPr/>
          <p:nvPr/>
        </p:nvPicPr>
        <p:blipFill>
          <a:blip r:embed="rId4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итание на отличн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12" descr="2"/>
          <p:cNvPicPr/>
          <p:nvPr/>
        </p:nvPicPr>
        <p:blipFill>
          <a:blip r:embed="rId1"/>
          <a:stretch/>
        </p:blipFill>
        <p:spPr>
          <a:xfrm>
            <a:off x="3084480" y="1600200"/>
            <a:ext cx="297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дых на природ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8" descr="snapshot_edae8d77_8db0f3ec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SSM105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ЛиА на мосту"/>
          <p:cNvPicPr/>
          <p:nvPr/>
        </p:nvPicPr>
        <p:blipFill>
          <a:blip r:embed="rId3"/>
          <a:stretch/>
        </p:blipFill>
        <p:spPr>
          <a:xfrm>
            <a:off x="5792760" y="3941640"/>
            <a:ext cx="174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В на рыб"/>
          <p:cNvPicPr/>
          <p:nvPr/>
        </p:nvPicPr>
        <p:blipFill>
          <a:blip r:embed="rId4"/>
          <a:stretch/>
        </p:blipFill>
        <p:spPr>
          <a:xfrm>
            <a:off x="1601640" y="3941640"/>
            <a:ext cx="174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08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